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B04F-B31F-4260-BB86-E2AB5F4FA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MA is an ontology of canonical human anatomy which represents anatomical structures in terms of Anatomical Entities (AE; e.g., organs, cells, molecules) that are linked to each other by Structural Relationships (SR; e.g., containment, continuity, adjacency). This figure represents a subset of thoracic AEs including the cavities of the proximal aorta (AoP), the left ventricle (LV), the pericarial space (peri), and the pleural space. The AoP and LV cavities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tain (vertical arrows) blood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clarity, a single horizontal arrow represents all other Structural Relationships between this subset of AE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 for this architecture: modularize!  Make the parts resu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VC is model/view/controller – often used as an idealized design pattern, but almost always gets customized for any giv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AB21F-AB85-40C4-A9FE-AF30DCAB6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58B7-5C88-440F-8F7E-7262D41EC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22A3-B90D-430B-B183-2467A35D4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2D0DB-2340-4172-A360-232F4D57B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0996E-17AB-4097-8FA1-EEEE32B9A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F4D43A-477D-44CD-A1CA-5308CCEF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A74F7-4FF1-4F7A-AE1C-97D42644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0AD43-F212-46B1-91B1-F49AD087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F93F1-D6F3-417E-BFBD-87E3FD4C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FF18A-6295-4594-BFCF-401D067B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5D9BE-CA75-4FB1-9F04-D9B6FBA0518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9C9D1-F492-4A52-9AAE-8D51CD4F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C6399-DB58-4F94-912D-E018DD5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D827E-41B1-459A-99BC-1FF13CF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B641D-5926-4517-B321-F952AC2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A7D224-75ED-451C-845E-4472C0F5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CA2D3-ECD3-4521-9E85-0337C436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696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4600" y="167616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932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696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4600" y="3904920"/>
            <a:ext cx="23306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74D3C-2CDB-41C2-BBAD-17088C00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7208-87FC-48E8-95D0-6A062C98A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D98B-2B59-4437-9770-9941B9584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3AA77-6889-4B80-9A61-C585763C4B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1A0E4-B49C-4CB1-AB58-4C659A1E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90492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AE51-DC98-4656-8FC2-619E860FB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676160"/>
            <a:ext cx="3532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904920"/>
            <a:ext cx="7238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17DE-674A-4C85-B92F-D32F82D97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22860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D739-D7DA-422D-B8F2-4B375223F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3660-1F2F-49DF-98D1-26F58350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r3 Architectur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43120" y="1704960"/>
            <a:ext cx="565776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5" idx="2"/>
            <a:endCxn id="403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405" idx="2"/>
            <a:endCxn id="402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401" idx="1"/>
            <a:endCxn id="409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"/>
          <p:cNvCxnSpPr>
            <a:stCxn id="409" idx="3"/>
            <a:endCxn id="410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2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4" name=""/>
          <p:cNvCxnSpPr>
            <a:stCxn id="413" idx="3"/>
            <a:endCxn id="412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404" idx="1"/>
            <a:endCxn id="413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405" idx="1"/>
            <a:endCxn id="404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405" idx="1"/>
            <a:endCxn id="401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"/>
          <p:cNvCxnSpPr>
            <a:stCxn id="418" idx="1"/>
            <a:endCxn id="405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20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21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24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27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752480" y="1295280"/>
            <a:ext cx="18288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3505320" y="1600200"/>
            <a:ext cx="16761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10080" y="1523880"/>
            <a:ext cx="3025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JKToRAS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37" idx="2"/>
            <a:endCxn id="435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"/>
          <p:cNvCxnSpPr>
            <a:stCxn id="437" idx="2"/>
            <a:endCxn id="434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3" idx="1"/>
            <a:endCxn id="441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2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"/>
          <p:cNvCxnSpPr>
            <a:stCxn id="441" idx="3"/>
            <a:endCxn id="442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6" name=""/>
          <p:cNvCxnSpPr>
            <a:stCxn id="445" idx="3"/>
            <a:endCxn id="444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stCxn id="436" idx="1"/>
            <a:endCxn id="445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37" idx="1"/>
            <a:endCxn id="436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37" idx="1"/>
            <a:endCxn id="433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1"/>
            <a:endCxn id="437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52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53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56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59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505320" y="1600200"/>
            <a:ext cx="5410080" cy="2133720"/>
            <a:chOff x="3505320" y="1600200"/>
            <a:chExt cx="5410080" cy="2133720"/>
          </a:xfrm>
        </p:grpSpPr>
        <p:sp>
          <p:nvSpPr>
            <p:cNvPr id="462" name=""/>
            <p:cNvSpPr/>
            <p:nvPr/>
          </p:nvSpPr>
          <p:spPr>
            <a:xfrm>
              <a:off x="3505320" y="1676520"/>
              <a:ext cx="1828800" cy="2057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257440" y="1828800"/>
              <a:ext cx="60948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889600" y="1600200"/>
              <a:ext cx="3025800" cy="14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peline with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Resl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MapToWindowLevelCol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tkImageMapToRGB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70" idx="2"/>
            <a:endCxn id="468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2" name=""/>
          <p:cNvCxnSpPr>
            <a:stCxn id="470" idx="2"/>
            <a:endCxn id="467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66" idx="1"/>
            <a:endCxn id="474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74" idx="3"/>
            <a:endCxn id="475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9" name=""/>
          <p:cNvCxnSpPr>
            <a:stCxn id="478" idx="3"/>
            <a:endCxn id="477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69" idx="1"/>
            <a:endCxn id="478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1" name=""/>
          <p:cNvCxnSpPr>
            <a:stCxn id="470" idx="1"/>
            <a:endCxn id="469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2" name=""/>
          <p:cNvCxnSpPr>
            <a:stCxn id="470" idx="1"/>
            <a:endCxn id="466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"/>
          <p:cNvCxnSpPr>
            <a:stCxn id="483" idx="1"/>
            <a:endCxn id="470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5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486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489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492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3429000"/>
            <a:ext cx="18288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5714640" y="1828800"/>
            <a:ext cx="15228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89600" y="1600200"/>
            <a:ext cx="302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line wit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ImageBl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502" idx="2"/>
            <a:endCxn id="500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2" idx="2"/>
            <a:endCxn id="499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498" idx="1"/>
            <a:endCxn id="506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506" idx="3"/>
            <a:endCxn id="507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1" name=""/>
          <p:cNvCxnSpPr>
            <a:stCxn id="510" idx="3"/>
            <a:endCxn id="509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1" idx="1"/>
            <a:endCxn id="510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2" idx="1"/>
            <a:endCxn id="501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2" idx="1"/>
            <a:endCxn id="498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15" idx="1"/>
            <a:endCxn id="502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17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518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521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524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7467480" y="3048120"/>
            <a:ext cx="1371600" cy="1676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297180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889600" y="1600200"/>
            <a:ext cx="302580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ControllerWidget (Menus, Scale, Buttons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Viewer (RenderWidget, ImageMapper, ImageActor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Undo Architecture for Slicer3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ing “Commit Aside” Strategy Encapsulated within M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“Initial Scene” (from file) and “Delta Scenes” (scenes containing undoabl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a Scenes ‘are’ MRML Sce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Nodes are Referenc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the MRML scene in the Application Logic causes the cascade of observer callbac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All Undoable operations must store their data as MRML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Undo Implementa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876920" y="1523880"/>
            <a:ext cx="1981080" cy="6098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81160" y="37339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81160" y="4533840"/>
            <a:ext cx="53352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81160" y="53341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51460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1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009960" y="4533840"/>
            <a:ext cx="53352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67080" y="2666880"/>
            <a:ext cx="152424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2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762440" y="5334120"/>
            <a:ext cx="53352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752480" y="21337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76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809880" y="21337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666880"/>
            <a:ext cx="152388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d S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201080" y="3733920"/>
            <a:ext cx="53316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201080" y="4533840"/>
            <a:ext cx="53316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01080" y="5334120"/>
            <a:ext cx="53316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90920" y="1600200"/>
            <a:ext cx="14475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o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190760" y="1828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828800" y="3352680"/>
            <a:ext cx="1447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200400" y="3352680"/>
            <a:ext cx="76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752480" y="3352680"/>
            <a:ext cx="15242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1752480" y="3352680"/>
            <a:ext cx="3200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504960" y="3352680"/>
            <a:ext cx="1523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029200" y="33526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505640" y="1523880"/>
            <a:ext cx="1219320" cy="449604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4496040"/>
              <a:gd name="textAreaBottom" fmla="*/ 4436640 h 4496040"/>
            </a:gdLst>
            <a:ahLst/>
            <a:rect l="textAreaLeft" t="textAreaTop" r="textAreaRight" b="textAreaBottom"/>
            <a:pathLst>
              <a:path w="21600" h="79629">
                <a:moveTo>
                  <a:pt x="3600" y="0"/>
                </a:moveTo>
                <a:arcTo wR="3600" hR="3600" stAng="16200000" swAng="-5400000"/>
                <a:lnTo>
                  <a:pt x="0" y="76029"/>
                </a:lnTo>
                <a:arcTo wR="3600" hR="3600" stAng="10800000" swAng="-5400000"/>
                <a:lnTo>
                  <a:pt x="18000" y="796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25000"/>
            </a:srgbClr>
          </a:solidFill>
          <a:ln w="31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1523880"/>
            <a:ext cx="5578560" cy="4496040"/>
          </a:xfrm>
          <a:prstGeom prst="rect">
            <a:avLst/>
          </a:prstGeom>
          <a:solidFill>
            <a:srgbClr val="ffff99">
              <a:alpha val="31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523880"/>
            <a:ext cx="1279800" cy="4496040"/>
          </a:xfrm>
          <a:prstGeom prst="rect">
            <a:avLst/>
          </a:prstGeom>
          <a:solidFill>
            <a:srgbClr val="ffff99">
              <a:alpha val="31000"/>
            </a:srgbClr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26885"/>
          <a:stretch/>
        </p:blipFill>
        <p:spPr>
          <a:xfrm>
            <a:off x="801720" y="5481720"/>
            <a:ext cx="438120" cy="460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rcRect l="0" t="0" r="0" b="26885"/>
          <a:stretch/>
        </p:blipFill>
        <p:spPr>
          <a:xfrm>
            <a:off x="4365720" y="5481720"/>
            <a:ext cx="474480" cy="461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0" b="26025"/>
          <a:stretch/>
        </p:blipFill>
        <p:spPr>
          <a:xfrm>
            <a:off x="7831080" y="5481720"/>
            <a:ext cx="566640" cy="460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94640" y="1749600"/>
            <a:ext cx="914400" cy="48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65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591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0840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00520" y="17575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0" idx="3"/>
            <a:endCxn id="141" idx="1"/>
          </p:cNvCxnSpPr>
          <p:nvPr/>
        </p:nvCxnSpPr>
        <p:spPr>
          <a:xfrm>
            <a:off x="1555560" y="1993680"/>
            <a:ext cx="38484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5" name=""/>
          <p:cNvCxnSpPr>
            <a:stCxn id="141" idx="3"/>
            <a:endCxn id="142" idx="1"/>
          </p:cNvCxnSpPr>
          <p:nvPr/>
        </p:nvCxnSpPr>
        <p:spPr>
          <a:xfrm>
            <a:off x="3007800" y="1993680"/>
            <a:ext cx="28188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6" name=""/>
          <p:cNvCxnSpPr>
            <a:stCxn id="142" idx="3"/>
            <a:endCxn id="143" idx="1"/>
          </p:cNvCxnSpPr>
          <p:nvPr/>
        </p:nvCxnSpPr>
        <p:spPr>
          <a:xfrm>
            <a:off x="4357440" y="1993680"/>
            <a:ext cx="32436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47" name=""/>
          <p:cNvCxnSpPr>
            <a:stCxn id="143" idx="3"/>
            <a:endCxn id="138" idx="1"/>
          </p:cNvCxnSpPr>
          <p:nvPr/>
        </p:nvCxnSpPr>
        <p:spPr>
          <a:xfrm>
            <a:off x="5749920" y="1993680"/>
            <a:ext cx="193104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sp>
        <p:nvSpPr>
          <p:cNvPr id="148" name=""/>
          <p:cNvSpPr/>
          <p:nvPr/>
        </p:nvSpPr>
        <p:spPr>
          <a:xfrm>
            <a:off x="3308400" y="312264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TK Ap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ing IT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99080" y="257508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rip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 M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9120" y="367200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3120" y="4191120"/>
            <a:ext cx="103032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NA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39000" y="4191120"/>
            <a:ext cx="102996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5029200"/>
            <a:ext cx="137160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rn G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/Comp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1" idx="2"/>
            <a:endCxn id="150" idx="0"/>
          </p:cNvCxnSpPr>
          <p:nvPr/>
        </p:nvCxnSpPr>
        <p:spPr>
          <a:xfrm flipV="1" rot="10800000">
            <a:off x="2474280" y="2249280"/>
            <a:ext cx="1080" cy="14040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5" name=""/>
          <p:cNvCxnSpPr>
            <a:stCxn id="142" idx="2"/>
            <a:endCxn id="148" idx="0"/>
          </p:cNvCxnSpPr>
          <p:nvPr/>
        </p:nvCxnSpPr>
        <p:spPr>
          <a:xfrm flipV="1" rot="10800000">
            <a:off x="3823560" y="2249280"/>
            <a:ext cx="1080" cy="8546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6" name=""/>
          <p:cNvCxnSpPr>
            <a:stCxn id="143" idx="2"/>
            <a:endCxn id="149" idx="0"/>
          </p:cNvCxnSpPr>
          <p:nvPr/>
        </p:nvCxnSpPr>
        <p:spPr>
          <a:xfrm flipH="1">
            <a:off x="5214600" y="2249280"/>
            <a:ext cx="2160" cy="30672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7" name=""/>
          <p:cNvCxnSpPr>
            <a:stCxn id="149" idx="3"/>
            <a:endCxn id="152" idx="0"/>
          </p:cNvCxnSpPr>
          <p:nvPr/>
        </p:nvCxnSpPr>
        <p:spPr>
          <a:xfrm>
            <a:off x="5748480" y="2811240"/>
            <a:ext cx="807120" cy="13608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8" name=""/>
          <p:cNvCxnSpPr>
            <a:stCxn id="151" idx="3"/>
            <a:endCxn id="152" idx="1"/>
          </p:cNvCxnSpPr>
          <p:nvPr/>
        </p:nvCxnSpPr>
        <p:spPr>
          <a:xfrm>
            <a:off x="5762160" y="4427280"/>
            <a:ext cx="258120" cy="108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59" name=""/>
          <p:cNvCxnSpPr>
            <a:stCxn id="152" idx="2"/>
            <a:endCxn id="153" idx="0"/>
          </p:cNvCxnSpPr>
          <p:nvPr/>
        </p:nvCxnSpPr>
        <p:spPr>
          <a:xfrm flipH="1">
            <a:off x="6552360" y="4683240"/>
            <a:ext cx="2520" cy="3276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0" name=""/>
          <p:cNvCxnSpPr>
            <a:stCxn id="152" idx="3"/>
            <a:endCxn id="138" idx="2"/>
          </p:cNvCxnSpPr>
          <p:nvPr/>
        </p:nvCxnSpPr>
        <p:spPr>
          <a:xfrm flipV="1">
            <a:off x="7087680" y="2252160"/>
            <a:ext cx="1064520" cy="21758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1" name=""/>
          <p:cNvCxnSpPr>
            <a:stCxn id="153" idx="3"/>
            <a:endCxn id="138" idx="2"/>
          </p:cNvCxnSpPr>
          <p:nvPr/>
        </p:nvCxnSpPr>
        <p:spPr>
          <a:xfrm flipV="1">
            <a:off x="7257600" y="2252160"/>
            <a:ext cx="894600" cy="301392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2" name=""/>
          <p:cNvCxnSpPr>
            <a:stCxn id="148" idx="3"/>
            <a:endCxn id="152" idx="0"/>
          </p:cNvCxnSpPr>
          <p:nvPr/>
        </p:nvCxnSpPr>
        <p:spPr>
          <a:xfrm>
            <a:off x="4357440" y="3359160"/>
            <a:ext cx="2197800" cy="81360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cxnSp>
        <p:nvCxnSpPr>
          <p:cNvPr id="163" name=""/>
          <p:cNvCxnSpPr>
            <a:stCxn id="150" idx="3"/>
            <a:endCxn id="152" idx="0"/>
          </p:cNvCxnSpPr>
          <p:nvPr/>
        </p:nvCxnSpPr>
        <p:spPr>
          <a:xfrm>
            <a:off x="3008160" y="3908520"/>
            <a:ext cx="3547440" cy="26424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  <p:sp>
        <p:nvSpPr>
          <p:cNvPr id="164" name=""/>
          <p:cNvSpPr/>
          <p:nvPr/>
        </p:nvSpPr>
        <p:spPr>
          <a:xfrm>
            <a:off x="6039000" y="1752480"/>
            <a:ext cx="1029960" cy="47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e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4" idx="2"/>
            <a:endCxn id="152" idx="0"/>
          </p:cNvCxnSpPr>
          <p:nvPr/>
        </p:nvCxnSpPr>
        <p:spPr>
          <a:xfrm flipV="1" rot="10800000">
            <a:off x="6554160" y="2244240"/>
            <a:ext cx="1080" cy="1928160"/>
          </a:xfrm>
          <a:prstGeom prst="bentConnector2">
            <a:avLst/>
          </a:prstGeom>
          <a:ln w="38160">
            <a:solidFill>
              <a:srgbClr val="808080"/>
            </a:solidFill>
            <a:miter/>
            <a:tailEnd len="sm" type="arrow" w="sm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Slicer3 “Observer MVC” Patt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R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cene Description and Applicatio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 Nodes are Persistent and Undo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and Nodes are Obser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ncapsulate VTK and ITK Pipelines (Contro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MRML to Configure Pip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Create/Manag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I Components (no Widgets, Actors, Mappers, Renderers or RenderWindow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i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and Edit MR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 with User and Displa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562720" y="304812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3886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RML N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1828800"/>
            <a:ext cx="1676520" cy="914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772400" y="2209680"/>
            <a:ext cx="685800" cy="3812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idge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2209680"/>
            <a:ext cx="762120" cy="3812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nder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001000" y="29718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2971800"/>
            <a:ext cx="763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47080" y="3352680"/>
            <a:ext cx="33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18800" y="323064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6705720" y="3627000"/>
            <a:ext cx="30456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1600" y="365760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324480" y="25146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04400" y="2819520"/>
            <a:ext cx="51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5880" y="23623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514600"/>
            <a:ext cx="336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2600" y="3809880"/>
            <a:ext cx="333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4572000"/>
            <a:ext cx="3276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 means generic event mechanism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used to pass inform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” means code can directly call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GUI can call methods in Logic classes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 Logic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nno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all GUI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anno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Logic or GUI metho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can be many observers for any ev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657600" y="1828800"/>
            <a:ext cx="1143000" cy="228600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281952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685800"/>
            <a:ext cx="2438640" cy="30492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990720"/>
            <a:ext cx="914400" cy="10666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(exce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de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34320" y="990720"/>
            <a:ext cx="914400" cy="10666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Ren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648320" y="14479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01440" y="152388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723920" y="182880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32440" y="22096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 Mrm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cene/Nod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008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8800" y="14479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10080" y="3200400"/>
            <a:ext cx="2438640" cy="30492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3505320"/>
            <a:ext cx="914400" cy="10666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(excep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derin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505320"/>
            <a:ext cx="914400" cy="10666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TK Rende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28800" y="39625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657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01840" y="2133720"/>
            <a:ext cx="1028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 on Applic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648320" y="38095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5240" y="4038480"/>
            <a:ext cx="70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dit Mrml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cene/Nod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1981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7010280" y="1905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8195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gisters GUI Event Observe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30040" y="3429000"/>
            <a:ext cx="86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serve Modifi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96080" y="19810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620120" y="2057400"/>
            <a:ext cx="1218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vide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s for Widget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outing of User Even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685800"/>
            <a:ext cx="2438640" cy="30492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Line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990720"/>
            <a:ext cx="914400" cy="10666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Logic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R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990720"/>
            <a:ext cx="914400" cy="1066680"/>
          </a:xfrm>
          <a:prstGeom prst="flowChartProcess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s to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WWidge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447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9600" y="1447920"/>
            <a:ext cx="566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diator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297180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3124080"/>
            <a:ext cx="1600200" cy="114300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352680"/>
            <a:ext cx="1981440" cy="1219320"/>
          </a:xfrm>
          <a:prstGeom prst="flowChart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ion Model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s executabl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shared libr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ort –xml 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02320" y="762120"/>
            <a:ext cx="1143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Managed by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se and communic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like other Module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33520" y="19807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escribe Input options (us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--xml optio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1981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213372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ormulates Command L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nd passes dat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2193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666880" y="3504960"/>
            <a:ext cx="1067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05160" y="2666880"/>
            <a:ext cx="116820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ack-door to MRML with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RMLIDImageI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TK IO Factory Libr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(Otherwise through files,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and line option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666880" y="3657600"/>
            <a:ext cx="1067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21080" y="90360"/>
            <a:ext cx="54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cer 3 Architecture Diagram (updated 2007-01-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19320" y="96048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o-Generated GUIs from XML Description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59720" y="5086440"/>
            <a:ext cx="583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classes in the Logic directory should be able to run ‘headless’ without OpenGL or window system for scripting and te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Logic and GUI contain transient application state (cursor location, focus, mrml scene connection…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sistent and Undoable state in MRML 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ive Modules are ones which interact with the VTK scene and/or User ev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active Modules interact with 3D scene by creating objects in MRML scene (not by direct manipulation of the Render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 classes encapsulate and manage internal vtk/itk pipelines and provide helper routines to create/manage 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I classes are implemented as KWWidget subcl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ach Logic class defines Get/Set methods for internal state and Modified Events that GUI classes can Obser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Base implements “first order” Node types (Volumes, Models, Transforms, Fiducials, Colors, etc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Modules provides application-specific extensi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4952880"/>
            <a:ext cx="2514600" cy="12193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Conne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socket connection directly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.g. MATLA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slicerget/slicerget utilit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.g. un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209680" y="38098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1960" y="396252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81400" y="4419720"/>
            <a:ext cx="909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licer Daemon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unication vi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rver por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r3 Slice Coordinat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7320" y="4098960"/>
            <a:ext cx="184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Y Image Spac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Render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286000"/>
            <a:ext cx="10670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23720" y="327672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c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38400" y="1981080"/>
            <a:ext cx="106668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12320" y="3048120"/>
            <a:ext cx="159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 to RAS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3809880"/>
            <a:ext cx="106668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1640" y="4876920"/>
            <a:ext cx="15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JK Volume Coordin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3048120"/>
            <a:ext cx="106668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4" idx="0"/>
            <a:endCxn id="238" idx="3"/>
          </p:cNvCxnSpPr>
          <p:nvPr/>
        </p:nvCxnSpPr>
        <p:spPr>
          <a:xfrm flipV="1" rot="16200000">
            <a:off x="6361920" y="2399760"/>
            <a:ext cx="305640" cy="99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8" idx="1"/>
          </p:cNvCxnSpPr>
          <p:nvPr/>
        </p:nvCxnSpPr>
        <p:spPr>
          <a:xfrm rot="10800000">
            <a:off x="3199680" y="2437560"/>
            <a:ext cx="1753200" cy="30564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0" idx="1"/>
            <a:endCxn id="240" idx="0"/>
          </p:cNvCxnSpPr>
          <p:nvPr/>
        </p:nvCxnSpPr>
        <p:spPr>
          <a:xfrm flipH="1" rot="10800000">
            <a:off x="2138040" y="1980360"/>
            <a:ext cx="534240" cy="457920"/>
          </a:xfrm>
          <a:prstGeom prst="curvedConnector5">
            <a:avLst>
              <a:gd name="adj1" fmla="val -42818"/>
              <a:gd name="adj2" fmla="val 74980"/>
              <a:gd name="adj3" fmla="val -428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endCxn id="242" idx="0"/>
          </p:cNvCxnSpPr>
          <p:nvPr/>
        </p:nvCxnSpPr>
        <p:spPr>
          <a:xfrm rot="5400000">
            <a:off x="1180440" y="2857320"/>
            <a:ext cx="1219680" cy="686520"/>
          </a:xfrm>
          <a:prstGeom prst="curvedConnector5">
            <a:avLst>
              <a:gd name="adj1" fmla="val 16002"/>
              <a:gd name="adj2" fmla="val 50000"/>
              <a:gd name="adj3" fmla="val 160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6402960" y="2438280"/>
            <a:ext cx="12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YToSlice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41360" y="1905120"/>
            <a:ext cx="130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ToRAS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32520" y="1447920"/>
            <a:ext cx="160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SToRAS Trans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0440" y="272736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SToIJK Matr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3040" y="4800600"/>
            <a:ext cx="529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JK = RASToIJK * RASToRAS * SliceToRAS * XYToSlice *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791320" y="5486400"/>
            <a:ext cx="1275120" cy="246240"/>
            <a:chOff x="5791320" y="5486400"/>
            <a:chExt cx="1275120" cy="246240"/>
          </a:xfrm>
        </p:grpSpPr>
        <p:sp>
          <p:nvSpPr>
            <p:cNvPr id="255" name=""/>
            <p:cNvSpPr/>
            <p:nvPr/>
          </p:nvSpPr>
          <p:spPr>
            <a:xfrm>
              <a:off x="579132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11160" y="5486400"/>
              <a:ext cx="75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lice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666880" y="5775480"/>
            <a:ext cx="5957640" cy="246240"/>
            <a:chOff x="2666880" y="5775480"/>
            <a:chExt cx="5957640" cy="246240"/>
          </a:xfrm>
        </p:grpSpPr>
        <p:sp>
          <p:nvSpPr>
            <p:cNvPr id="258" name=""/>
            <p:cNvSpPr/>
            <p:nvPr/>
          </p:nvSpPr>
          <p:spPr>
            <a:xfrm>
              <a:off x="2666880" y="583560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66200" y="5775480"/>
              <a:ext cx="545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YToIJK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trix Calculated by SliceLayerLogic      Coordinates are Cell Centered (no VTK fli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7543800" y="5334120"/>
            <a:ext cx="1178640" cy="246240"/>
            <a:chOff x="7543800" y="5334120"/>
            <a:chExt cx="1178640" cy="246240"/>
          </a:xfrm>
        </p:grpSpPr>
        <p:sp>
          <p:nvSpPr>
            <p:cNvPr id="261" name=""/>
            <p:cNvSpPr/>
            <p:nvPr/>
          </p:nvSpPr>
          <p:spPr>
            <a:xfrm>
              <a:off x="7543800" y="534204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5520" y="5334120"/>
              <a:ext cx="73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m GU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7696080" y="51051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6095880" y="5181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6553080" y="5181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38440" y="4495680"/>
            <a:ext cx="180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JK = XYToIJK * 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133880" y="5486400"/>
            <a:ext cx="1579320" cy="246240"/>
            <a:chOff x="4133880" y="5486400"/>
            <a:chExt cx="1579320" cy="246240"/>
          </a:xfrm>
        </p:grpSpPr>
        <p:sp>
          <p:nvSpPr>
            <p:cNvPr id="268" name=""/>
            <p:cNvSpPr/>
            <p:nvPr/>
          </p:nvSpPr>
          <p:spPr>
            <a:xfrm>
              <a:off x="413388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53000" y="54864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form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487692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684520" y="5486400"/>
            <a:ext cx="1429200" cy="246240"/>
            <a:chOff x="2684520" y="5486400"/>
            <a:chExt cx="1429200" cy="246240"/>
          </a:xfrm>
        </p:grpSpPr>
        <p:sp>
          <p:nvSpPr>
            <p:cNvPr id="272" name=""/>
            <p:cNvSpPr/>
            <p:nvPr/>
          </p:nvSpPr>
          <p:spPr>
            <a:xfrm>
              <a:off x="2684520" y="5535360"/>
              <a:ext cx="380880" cy="149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04360" y="5486400"/>
              <a:ext cx="90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olumeN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581280" y="518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0" idx="2"/>
            <a:endCxn id="278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80" idx="2"/>
            <a:endCxn id="277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1"/>
            <a:endCxn id="284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4" idx="3"/>
            <a:endCxn id="285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3"/>
            <a:endCxn id="287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79" idx="1"/>
            <a:endCxn id="288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0" idx="1"/>
            <a:endCxn id="279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80" idx="1"/>
            <a:endCxn id="276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93" idx="1"/>
            <a:endCxn id="280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95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296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299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02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9" idx="2"/>
            <a:endCxn id="307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9" idx="2"/>
            <a:endCxn id="306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5" idx="1"/>
            <a:endCxn id="313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4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3" idx="3"/>
            <a:endCxn id="314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7" idx="3"/>
            <a:endCxn id="316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08" idx="1"/>
            <a:endCxn id="317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09" idx="1"/>
            <a:endCxn id="308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09" idx="1"/>
            <a:endCxn id="305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22" idx="1"/>
            <a:endCxn id="309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24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25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28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31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320" y="1219320"/>
            <a:ext cx="182880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904760" y="1600200"/>
            <a:ext cx="32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410080" y="1523880"/>
            <a:ext cx="30258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/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okup Table (Color 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arency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"/>
          <p:cNvCxnSpPr>
            <a:stCxn id="341" idx="2"/>
            <a:endCxn id="339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41" idx="2"/>
            <a:endCxn id="338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1"/>
            <a:endCxn id="345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6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"/>
          <p:cNvCxnSpPr>
            <a:stCxn id="345" idx="3"/>
            <a:endCxn id="346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8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49" idx="3"/>
            <a:endCxn id="348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0" idx="1"/>
            <a:endCxn id="349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1" idx="1"/>
            <a:endCxn id="340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3" name=""/>
          <p:cNvCxnSpPr>
            <a:stCxn id="341" idx="1"/>
            <a:endCxn id="337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1"/>
            <a:endCxn id="341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6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57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60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63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0" y="3124080"/>
            <a:ext cx="182880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981080" y="1600200"/>
            <a:ext cx="320040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10080" y="1523880"/>
            <a:ext cx="30258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S Location of Slice (Origin and Orien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of 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xel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lice Managemen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19810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e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33526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4191120"/>
            <a:ext cx="1371600" cy="5331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Composit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9880" y="289548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ayer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91320" y="3657600"/>
            <a:ext cx="1143000" cy="45720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2"/>
            <a:endCxn id="371" idx="5"/>
          </p:cNvCxnSpPr>
          <p:nvPr/>
        </p:nvCxnSpPr>
        <p:spPr>
          <a:xfrm rot="5400000">
            <a:off x="3575880" y="1860120"/>
            <a:ext cx="532440" cy="5041080"/>
          </a:xfrm>
          <a:prstGeom prst="bentConnector3">
            <a:avLst>
              <a:gd name="adj1" fmla="val 1575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73" idx="2"/>
            <a:endCxn id="370" idx="5"/>
          </p:cNvCxnSpPr>
          <p:nvPr/>
        </p:nvCxnSpPr>
        <p:spPr>
          <a:xfrm flipV="1" rot="16200000">
            <a:off x="3688920" y="1440720"/>
            <a:ext cx="306720" cy="5041080"/>
          </a:xfrm>
          <a:prstGeom prst="bentConnector3">
            <a:avLst>
              <a:gd name="adj1" fmla="val -746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69" idx="1"/>
            <a:endCxn id="377" idx="5"/>
          </p:cNvCxnSpPr>
          <p:nvPr/>
        </p:nvCxnSpPr>
        <p:spPr>
          <a:xfrm rot="10800000">
            <a:off x="3150360" y="20552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304920" y="15238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81080" y="16002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"/>
          <p:cNvCxnSpPr>
            <a:stCxn id="377" idx="3"/>
            <a:endCxn id="378" idx="5"/>
          </p:cNvCxnSpPr>
          <p:nvPr/>
        </p:nvCxnSpPr>
        <p:spPr>
          <a:xfrm flipV="1" rot="16200000">
            <a:off x="1790280" y="16635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304920" y="243828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Display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2514600"/>
            <a:ext cx="1371600" cy="5335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olume 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2" name=""/>
          <p:cNvCxnSpPr>
            <a:stCxn id="381" idx="3"/>
            <a:endCxn id="380" idx="5"/>
          </p:cNvCxnSpPr>
          <p:nvPr/>
        </p:nvCxnSpPr>
        <p:spPr>
          <a:xfrm flipV="1" rot="16200000">
            <a:off x="1790280" y="2577960"/>
            <a:ext cx="76680" cy="708480"/>
          </a:xfrm>
          <a:prstGeom prst="bentConnector3">
            <a:avLst>
              <a:gd name="adj1" fmla="val -4037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2" idx="1"/>
            <a:endCxn id="381" idx="5"/>
          </p:cNvCxnSpPr>
          <p:nvPr/>
        </p:nvCxnSpPr>
        <p:spPr>
          <a:xfrm rot="10800000">
            <a:off x="3150360" y="2969640"/>
            <a:ext cx="659520" cy="15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4" name=""/>
          <p:cNvCxnSpPr>
            <a:stCxn id="373" idx="1"/>
            <a:endCxn id="372" idx="3"/>
          </p:cNvCxnSpPr>
          <p:nvPr/>
        </p:nvCxnSpPr>
        <p:spPr>
          <a:xfrm rot="10800000">
            <a:off x="4952160" y="3123360"/>
            <a:ext cx="839160" cy="762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3" idx="1"/>
            <a:endCxn id="369" idx="3"/>
          </p:cNvCxnSpPr>
          <p:nvPr/>
        </p:nvCxnSpPr>
        <p:spPr>
          <a:xfrm rot="10800000">
            <a:off x="4952160" y="2208960"/>
            <a:ext cx="83916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7696080" y="3352680"/>
            <a:ext cx="914400" cy="1067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ce GUI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"/>
          <p:cNvCxnSpPr>
            <a:stCxn id="386" idx="1"/>
            <a:endCxn id="373" idx="3"/>
          </p:cNvCxnSpPr>
          <p:nvPr/>
        </p:nvCxnSpPr>
        <p:spPr>
          <a:xfrm flipH="1">
            <a:off x="6933960" y="3885840"/>
            <a:ext cx="762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88" name=""/>
          <p:cNvGrpSpPr/>
          <p:nvPr/>
        </p:nvGrpSpPr>
        <p:grpSpPr>
          <a:xfrm>
            <a:off x="533520" y="5240160"/>
            <a:ext cx="3044160" cy="246240"/>
            <a:chOff x="533520" y="5240160"/>
            <a:chExt cx="3044160" cy="246240"/>
          </a:xfrm>
        </p:grpSpPr>
        <p:sp>
          <p:nvSpPr>
            <p:cNvPr id="389" name=""/>
            <p:cNvSpPr/>
            <p:nvPr/>
          </p:nvSpPr>
          <p:spPr>
            <a:xfrm>
              <a:off x="533520" y="5289480"/>
              <a:ext cx="380880" cy="14940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53000" y="5240160"/>
              <a:ext cx="252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RML Nodes: Persistent, Undoable St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71680" y="5562720"/>
            <a:ext cx="3928320" cy="246240"/>
            <a:chOff x="571680" y="5562720"/>
            <a:chExt cx="3928320" cy="246240"/>
          </a:xfrm>
        </p:grpSpPr>
        <p:sp>
          <p:nvSpPr>
            <p:cNvPr id="392" name=""/>
            <p:cNvSpPr/>
            <p:nvPr/>
          </p:nvSpPr>
          <p:spPr>
            <a:xfrm>
              <a:off x="571680" y="5622840"/>
              <a:ext cx="304560" cy="122400"/>
            </a:xfrm>
            <a:prstGeom prst="flowChartProcess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68480" y="5562720"/>
              <a:ext cx="3431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: Encapsulate VTK Pipelines, Observe MRML Nod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627120" y="5829480"/>
            <a:ext cx="5996520" cy="246240"/>
            <a:chOff x="627120" y="5829480"/>
            <a:chExt cx="5996520" cy="246240"/>
          </a:xfrm>
        </p:grpSpPr>
        <p:sp>
          <p:nvSpPr>
            <p:cNvPr id="395" name=""/>
            <p:cNvSpPr/>
            <p:nvPr/>
          </p:nvSpPr>
          <p:spPr>
            <a:xfrm>
              <a:off x="627120" y="5837400"/>
              <a:ext cx="195120" cy="2286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66320" y="5829480"/>
              <a:ext cx="555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UI: Manage Widgets and Rendering; Manipulated Nodes and Logic; Observe Nodes and Log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0" y="3962520"/>
            <a:ext cx="1828800" cy="99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676520" y="1600200"/>
            <a:ext cx="3504960" cy="2438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410080" y="1523880"/>
            <a:ext cx="3025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 IDs per L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acity of Over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12:18:40Z</dcterms:created>
  <dc:creator>Steve Pieper</dc:creator>
  <dc:description/>
  <dc:language>en-US</dc:language>
  <cp:lastModifiedBy> Steve Pieper</cp:lastModifiedBy>
  <dcterms:modified xsi:type="dcterms:W3CDTF">2007-01-09T16:54:08Z</dcterms:modified>
  <cp:revision>17</cp:revision>
  <dc:subject/>
  <dc:title>Slicer 3.0 Architecure</dc:title>
</cp:coreProperties>
</file>